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1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media/image8.jpeg" ContentType="image/jpeg"/>
  <Override PartName="/ppt/media/image10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9E3C-A05B-42E4-A9CF-BF8964019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1207-D940-4F2D-BF4B-04C4609AE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55FE-71EC-4F92-BCF7-6E7E822C9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8B32-8170-4955-907A-FE229BB55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181C-3C65-4D37-ADF8-228BB3D86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105A-3F2C-414F-A637-F4AE1FF0F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69ED-36FC-48BA-8761-BD03736CC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064B-F973-4298-B3E3-E20595A1C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7A7F-B5B7-4C8C-BECE-E7BFD5B8A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86E5-42A3-4E54-AA3A-8DDB4720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8393-A7C2-4245-95F3-D9ABD2CE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3DAE-A36D-4456-AEB1-7F6039E3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C6D16-6DF8-4A54-9E7E-F1511024A8C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om.eg/url?sa=i&amp;rct=j&amp;q=&amp;esrc=s&amp;source=images&amp;cd=&amp;cad=rja&amp;docid=eQsM_tAQSHTskM&amp;tbnid=Db3uH7xoQZsfUM:&amp;ved=0CAUQjRw&amp;url=http%3A%2F%2Fen.wikipedia.org%2Fwiki%2FStomach&amp;ei=Ik4DU5H7O6KR0AWg_IDgCw&amp;bvm=bv.61535280,d.d2k&amp;psig=AFQjCNEZuW9hNm3tuG7Ia7wQnS4pIWaZYw&amp;ust=1392811775794391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ogle.com.eg/url?sa=i&amp;rct=j&amp;q=&amp;esrc=s&amp;source=images&amp;cd=&amp;cad=rja&amp;docid=QRWV1mS7Bzu2QM&amp;tbnid=TSAzBjOruaL1LM:&amp;ved=0CAUQjRw&amp;url=http%3A%2F%2Fwww.studyblue.com%2Fnotes%2Fnote%2Fn%2Fanatomy-flash-cards%2Fdeck%2F7019594&amp;ei=hE8DU4XDG-aK0AX02oCYDg&amp;bvm=bv.61535280,d.d2k&amp;psig=AFQjCNG8bGYvsd81JH32wUKH7cxa5-TlaQ&amp;ust=1392812091892998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0" y="836640"/>
            <a:ext cx="464328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2- Venous drainage of the stoma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The left and right gastric vein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in directly into the 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portal vein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The short gastric vein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the left gastroepiploic ve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in the 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splenic v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The right gastroepiploic ve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ins the 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superior mesenteric vei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4788000" y="1557360"/>
            <a:ext cx="4105080" cy="4392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4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20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Lymph drainage of stomach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astric lymph vessels drain ultimately into the </a:t>
            </a:r>
            <a:r>
              <a:rPr b="0" lang="en-US" sz="3200" spc="-1" strike="noStrike">
                <a:solidFill>
                  <a:srgbClr val="00b050"/>
                </a:solidFill>
                <a:latin typeface="Arial"/>
              </a:rPr>
              <a:t>celiac lymph no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28" descr="24693-0550x0475"/>
          <p:cNvPicPr/>
          <p:nvPr/>
        </p:nvPicPr>
        <p:blipFill>
          <a:blip r:embed="rId1"/>
          <a:srcRect l="0" t="0" r="5610" b="5463"/>
          <a:stretch/>
        </p:blipFill>
        <p:spPr>
          <a:xfrm>
            <a:off x="826920" y="1844640"/>
            <a:ext cx="7794720" cy="5013360"/>
          </a:xfrm>
          <a:prstGeom prst="rect">
            <a:avLst/>
          </a:prstGeom>
          <a:ln w="28440">
            <a:solidFill>
              <a:srgbClr val="00b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38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c000"/>
                </a:solidFill>
                <a:latin typeface="Arial"/>
              </a:rPr>
              <a:t>Nerve supply of the stomach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c000"/>
                </a:solidFill>
                <a:latin typeface="Arial"/>
              </a:rPr>
              <a:t>Sympathetic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from celiac plexus around celiac trunk. It causes relaxation of the wall and contraction of pyloric sphincter. It also carries pain sensation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c000"/>
                </a:solidFill>
                <a:latin typeface="Arial"/>
              </a:rPr>
              <a:t>Parasympathetic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sympathetic fibers from the right and left vagus nerves. It is secretory to the glands of the stomach, inhibitory to the pyloric sphincter and motor to the wall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arge bran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sses to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elia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uperior mesenteric plexu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is distributed to the intestine as far as the splenic flexure and to the pancre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1738440" y="3933720"/>
            <a:ext cx="6073560" cy="2800440"/>
          </a:xfrm>
          <a:prstGeom prst="rect">
            <a:avLst/>
          </a:prstGeom>
          <a:ln w="28440">
            <a:solidFill>
              <a:srgbClr val="00b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1476360" y="1106640"/>
            <a:ext cx="6264360" cy="46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4392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 hypochondrium, epigastrim and umbilical regions of the abdom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J-shaped org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has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wo orifi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cardiac and pyloric orific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wo curvatu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greater and lesser curvatur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wo surfa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 anterior and a posterior surfa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4645080" y="1197000"/>
            <a:ext cx="4259160" cy="4896000"/>
          </a:xfrm>
          <a:prstGeom prst="rect">
            <a:avLst/>
          </a:prstGeom>
          <a:ln w="9360">
            <a:solidFill>
              <a:srgbClr val="00b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50068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s of the stoma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undu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dome-shaped, projects upward and to the left of the cardiac orifi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usually full of ga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Bod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tends form the fundus to a line extending from  the incisura angularis on the lesser curvature to the prepyloric bulge on the greater curvatu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Pyloric par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part of the stomach. It has three parts (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pyloric antr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pyloric ca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pyloric sphincter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300px-Regions_of_stomach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75320" y="428760"/>
            <a:ext cx="3106800" cy="3431880"/>
          </a:xfrm>
          <a:prstGeom prst="rect">
            <a:avLst/>
          </a:prstGeom>
          <a:ln w="28440">
            <a:solidFill>
              <a:srgbClr val="00b050"/>
            </a:solidFill>
            <a:miter/>
          </a:ln>
        </p:spPr>
      </p:pic>
      <p:pic>
        <p:nvPicPr>
          <p:cNvPr id="46" name="Picture 5" descr=""/>
          <p:cNvPicPr/>
          <p:nvPr/>
        </p:nvPicPr>
        <p:blipFill>
          <a:blip r:embed="rId3"/>
          <a:stretch/>
        </p:blipFill>
        <p:spPr>
          <a:xfrm>
            <a:off x="5505480" y="4005360"/>
            <a:ext cx="3328920" cy="2765160"/>
          </a:xfrm>
          <a:prstGeom prst="rect">
            <a:avLst/>
          </a:prstGeom>
          <a:ln w="28440">
            <a:solidFill>
              <a:srgbClr val="00b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urvatures of the stomach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1- Lesser curvatur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s the right border of the stomach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Extends from cardiac orifice to  pyloru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The lesser omentum extends from the lesser curvature to the live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It is related to the right and left gastric vesse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188616-193622-3369130508880152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2344680"/>
            <a:ext cx="6840720" cy="4251240"/>
          </a:xfrm>
          <a:prstGeom prst="rect">
            <a:avLst/>
          </a:prstGeom>
          <a:ln w="28440">
            <a:solidFill>
              <a:srgbClr val="00b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30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2- Greater curvatur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ms the left border of the stomach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tends from cardiac orifice to  pyloru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gives attachment(from above downwards) to </a:t>
            </a:r>
            <a:r>
              <a:rPr b="0" lang="en-US" sz="2600" spc="-1" strike="noStrike">
                <a:solidFill>
                  <a:srgbClr val="00b050"/>
                </a:solidFill>
                <a:latin typeface="Arial"/>
              </a:rPr>
              <a:t>gastrophrenic, gastrosplenic ligaments and greater omentum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is related to </a:t>
            </a: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righ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left gastroepiploic vessel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188616-193622-33691305088801523"/>
          <p:cNvPicPr/>
          <p:nvPr/>
        </p:nvPicPr>
        <p:blipFill>
          <a:blip r:embed="rId1"/>
          <a:stretch/>
        </p:blipFill>
        <p:spPr>
          <a:xfrm>
            <a:off x="250920" y="2997360"/>
            <a:ext cx="4176720" cy="3744720"/>
          </a:xfrm>
          <a:prstGeom prst="rect">
            <a:avLst/>
          </a:prstGeom>
          <a:ln w="19080">
            <a:solidFill>
              <a:srgbClr val="00b050"/>
            </a:solidFill>
            <a:miter/>
          </a:ln>
        </p:spPr>
      </p:pic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4500720" y="2997360"/>
            <a:ext cx="4590720" cy="3744720"/>
          </a:xfrm>
          <a:prstGeom prst="rect">
            <a:avLst/>
          </a:prstGeom>
          <a:ln w="28440">
            <a:solidFill>
              <a:srgbClr val="00b050"/>
            </a:solidFill>
            <a:miter/>
          </a:ln>
        </p:spPr>
      </p:pic>
      <p:sp>
        <p:nvSpPr>
          <p:cNvPr id="52" name="Rounded Rectangle 1"/>
          <p:cNvSpPr/>
          <p:nvPr/>
        </p:nvSpPr>
        <p:spPr>
          <a:xfrm>
            <a:off x="7956720" y="5300640"/>
            <a:ext cx="1134720" cy="2160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ed Rectangle 5"/>
          <p:cNvSpPr/>
          <p:nvPr/>
        </p:nvSpPr>
        <p:spPr>
          <a:xfrm>
            <a:off x="6875640" y="6381720"/>
            <a:ext cx="1368360" cy="341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ounded Rectangle 2"/>
          <p:cNvSpPr/>
          <p:nvPr/>
        </p:nvSpPr>
        <p:spPr>
          <a:xfrm>
            <a:off x="3276720" y="3068640"/>
            <a:ext cx="934920" cy="431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ounded Rectangle 7"/>
          <p:cNvSpPr/>
          <p:nvPr/>
        </p:nvSpPr>
        <p:spPr>
          <a:xfrm>
            <a:off x="3429000" y="4221000"/>
            <a:ext cx="998640" cy="4320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8"/>
          <p:cNvSpPr/>
          <p:nvPr/>
        </p:nvSpPr>
        <p:spPr>
          <a:xfrm>
            <a:off x="2556000" y="6237360"/>
            <a:ext cx="1116000" cy="431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0"/>
            <a:ext cx="4788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ifices of the stoma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diac orific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1 inc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the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left</a:t>
            </a: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median</a:t>
            </a: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pla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level o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.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 </a:t>
            </a: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physiological sphinct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it depends on the presence of mucosal folds, positive intra-abdominal pressure and few fibers from the 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right cru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 diaphragm which 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encirc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yloric orif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1/2 inc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the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rig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median pla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level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.1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(transpyloric plane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t is </a:t>
            </a: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anatomical sphinct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it contains circular muscle fib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stomach anatomy medical illustration"/>
          <p:cNvPicPr/>
          <p:nvPr/>
        </p:nvPicPr>
        <p:blipFill>
          <a:blip r:embed="rId1"/>
          <a:stretch/>
        </p:blipFill>
        <p:spPr>
          <a:xfrm>
            <a:off x="4643280" y="620640"/>
            <a:ext cx="4356360" cy="5318280"/>
          </a:xfrm>
          <a:prstGeom prst="rect">
            <a:avLst/>
          </a:prstGeom>
          <a:ln w="28440">
            <a:solidFill>
              <a:srgbClr val="00b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19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lation of Anterior surface: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patic area (liver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erior abdominal w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phragmatic area (Diaphragm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3502W"/>
          <p:cNvPicPr/>
          <p:nvPr/>
        </p:nvPicPr>
        <p:blipFill>
          <a:blip r:embed="rId1"/>
          <a:srcRect l="0" t="12275" r="0" b="6089"/>
          <a:stretch/>
        </p:blipFill>
        <p:spPr>
          <a:xfrm>
            <a:off x="2394000" y="1989000"/>
            <a:ext cx="4411440" cy="4737240"/>
          </a:xfrm>
          <a:prstGeom prst="rect">
            <a:avLst/>
          </a:prstGeom>
          <a:ln w="28440">
            <a:solidFill>
              <a:srgbClr val="00b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08000" y="285480"/>
            <a:ext cx="9036000" cy="28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ation of Posterior surface (stomach be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related posteriorly to lesser sac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phragm, spleen, left suprarenal gland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per part of the left kidney, splen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ery, pancreas, transverse mesocol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ransverse col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30" descr="stomach%20bed"/>
          <p:cNvPicPr/>
          <p:nvPr/>
        </p:nvPicPr>
        <p:blipFill>
          <a:blip r:embed="rId1"/>
          <a:stretch/>
        </p:blipFill>
        <p:spPr>
          <a:xfrm>
            <a:off x="1403280" y="3284640"/>
            <a:ext cx="6481800" cy="3313080"/>
          </a:xfrm>
          <a:prstGeom prst="rect">
            <a:avLst/>
          </a:prstGeom>
          <a:ln w="28440">
            <a:solidFill>
              <a:srgbClr val="00b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08000" y="0"/>
            <a:ext cx="446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Blood supply of the stomach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- Arterial supp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rom the branches of the celiac trun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eft gastric arter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ises from the 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celiac arte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ight gastric arter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ises from the 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hepatic arte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hort gastric arteri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ise from the 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splenic arte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eft gastroepiploic arter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ises from the 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splenic arte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ight gastroepiploic arter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ises from the </a:t>
            </a: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gastroduodenal branch of the hepatic arte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29" descr=""/>
          <p:cNvPicPr/>
          <p:nvPr/>
        </p:nvPicPr>
        <p:blipFill>
          <a:blip r:embed="rId1"/>
          <a:stretch/>
        </p:blipFill>
        <p:spPr>
          <a:xfrm>
            <a:off x="4500720" y="260280"/>
            <a:ext cx="4392360" cy="6407280"/>
          </a:xfrm>
          <a:prstGeom prst="rect">
            <a:avLst/>
          </a:prstGeom>
          <a:ln w="28440">
            <a:solidFill>
              <a:srgbClr val="00b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3T20:12:40Z</dcterms:created>
  <dc:creator>Prof. Dr. Shawky</dc:creator>
  <dc:description/>
  <dc:language>en-US</dc:language>
  <cp:lastModifiedBy>Safa Osman</cp:lastModifiedBy>
  <dcterms:modified xsi:type="dcterms:W3CDTF">2016-09-25T12:23:30Z</dcterms:modified>
  <cp:revision>25</cp:revision>
  <dc:subject/>
  <dc:title>Stomach</dc:title>
</cp:coreProperties>
</file>